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10F-01F9-4AE9-870B-A8C87692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76E-EFD4-45B2-A37D-1308F02C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0C3-F061-43DB-A0F1-07E135C3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6D1-044D-4EC1-8B8C-CBCC0988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EF67-913E-499A-9CE5-0A2617BE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AA64-F3E0-46FC-B7FB-0C4F6C91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70E8-92D8-4A9F-A9F0-5B17C46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8FF-D8E3-4414-9ACB-0E7867A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F13-B5EA-4742-B20F-E6EC4843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903E-8227-409B-9BD3-D96D2647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A9A-CB41-46A7-8318-21C4193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D1D-EA71-4844-AD5C-4B84AB71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F42-A956-42DF-B700-568BB7F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D996-A6A8-45BE-9446-EB29F2E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E90-0DFC-4034-9200-EC5D28B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1D8-BE07-4C9B-8617-5BD870CF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63B2-61D2-4C80-A56F-4D9207ED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9F0-288E-4FE9-8C3E-1DE4F36A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1BF-E5E5-4A54-8B7F-99FD429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C61-AC2E-4F75-BD37-FDF5B159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DE9-9C8D-48D3-8EE9-418116F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12D-1C34-4737-B92E-83A7DEE3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685-FD55-4CEF-8E18-06B3998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4A5-4880-4787-8DBD-F2CF03E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79E9-8BE9-4DAB-99C7-76B428BA7D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5B5-63C2-49ED-B18D-324917630F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ffingtonpost.com/2008/03/28/uncovered-possible-inspi_n_93944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Garamond"/>
              </a:rPr>
              <a:t>What caused WWI?  How did the US get involved?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THINK WAY BACK WHEN TO YOUR WESTERN CIV C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merican Red Cross- Private aid org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redcross.org/images/MEDIA_CustomProductCatalog/m37640086_763x380-ww1-numb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8559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304920"/>
          <a:ext cx="8229600" cy="6324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king of the Lusitania. War talk begins in the United States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ational Defense Act expands the Arm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7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35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rmany renews unrestricted submarine warfare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S. Housatonic sunk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 breaks diplomatic relations with German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.S. declares war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lective Service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irst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ar Industries Boa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u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ever Food and Fuel Control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ar Revenue Ac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cond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ailroads are nationalized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76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ximum prices for stee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rnard Baruch heads the War Industries Boar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Germans begin massive offensive on the western fro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hird Liberty Loa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irst independent action by the American Expeditionary For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attle of Belleau Wood – the first sizable U.S. ac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cond Battle of the Marne – German offensive stopp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900,000 Americans in the Battle of Meuse-Argon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Fourth Liberty Loa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36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rmisti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US moves towards wa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ive Service 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im Crow joins the army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destroy the mad brute">
            <a:hlinkClick r:id="rId1"/>
          </p:cNvPr>
          <p:cNvPicPr/>
          <p:nvPr/>
        </p:nvPicPr>
        <p:blipFill>
          <a:blip r:embed="rId2"/>
          <a:srcRect l="0" t="0" r="1961" b="0"/>
          <a:stretch/>
        </p:blipFill>
        <p:spPr>
          <a:xfrm>
            <a:off x="4838760" y="228600"/>
            <a:ext cx="4305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was the fighting actually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oughbo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ench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chine gu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n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ard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Trenches - WWI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270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John Sargent Singer - Gassed - 1918"/>
          <p:cNvPicPr/>
          <p:nvPr/>
        </p:nvPicPr>
        <p:blipFill>
          <a:blip r:embed="rId2"/>
          <a:stretch/>
        </p:blipFill>
        <p:spPr>
          <a:xfrm>
            <a:off x="2666880" y="4487760"/>
            <a:ext cx="6477120" cy="237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British machine gun team wearing gas masks"/>
          <p:cNvPicPr/>
          <p:nvPr/>
        </p:nvPicPr>
        <p:blipFill>
          <a:blip r:embed="rId3"/>
          <a:stretch/>
        </p:blipFill>
        <p:spPr>
          <a:xfrm>
            <a:off x="6553080" y="2743200"/>
            <a:ext cx="2590920" cy="171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George Patton - Tank - WWI"/>
          <p:cNvPicPr/>
          <p:nvPr/>
        </p:nvPicPr>
        <p:blipFill>
          <a:blip r:embed="rId4"/>
          <a:stretch/>
        </p:blipFill>
        <p:spPr>
          <a:xfrm>
            <a:off x="2895480" y="2057400"/>
            <a:ext cx="253836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rtillery-011"/>
          <p:cNvPicPr/>
          <p:nvPr/>
        </p:nvPicPr>
        <p:blipFill>
          <a:blip r:embed="rId5"/>
          <a:stretch/>
        </p:blipFill>
        <p:spPr>
          <a:xfrm>
            <a:off x="0" y="4038480"/>
            <a:ext cx="2503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ar en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mber 1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t 11AM in 19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5 Million dead, 21 million wou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vilian cost as well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etary cost as well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ttle over 50,000 American dea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y of Versail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oodrow Wilson and post war atmosphere – Treaty of Versail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poi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ng secret tre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eing to freedom of the s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economic barriers to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the size of national armies and na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ing colonial claims with fairness towards colonial peo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rawing national borders – giving of self-deter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League of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00400" y="1523880"/>
            <a:ext cx="5943600" cy="3764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Garamond"/>
              </a:rPr>
              <a:t>You are (MANIAC)s if you don’t know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ita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ass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What was the US doing while Europe was getting involved in WWI?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lson- Anglophile – only PH.D President- covertly supported Britis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lation- official poli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Defense Act – increased # of sold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How did the US finally find itself involved in the war?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ecting Shipp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boats May 19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PE- didn’t cause it- b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d lead US to become mo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gag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bruary 191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UP-big factor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rmans decla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restricted warfare on all shipp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lusitania"/>
          <p:cNvPicPr/>
          <p:nvPr/>
        </p:nvPicPr>
        <p:blipFill>
          <a:blip r:embed="rId1"/>
          <a:stretch/>
        </p:blipFill>
        <p:spPr>
          <a:xfrm>
            <a:off x="4803840" y="739800"/>
            <a:ext cx="4078080" cy="269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greatwarproject.org/wp-content/uploads/2016/03/unrestricted.jpg"/>
          <p:cNvPicPr/>
          <p:nvPr/>
        </p:nvPicPr>
        <p:blipFill>
          <a:blip r:embed="rId2"/>
          <a:stretch/>
        </p:blipFill>
        <p:spPr>
          <a:xfrm>
            <a:off x="4114800" y="369576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236760" y="0"/>
            <a:ext cx="5943600" cy="352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s://image.slidesharecdn.com/wwibookppt-100223192713-phpapp01/95/wwi-unabridged-56-728.jpg?cb=1266953344"/>
          <p:cNvPicPr/>
          <p:nvPr/>
        </p:nvPicPr>
        <p:blipFill>
          <a:blip r:embed="rId2"/>
          <a:stretch/>
        </p:blipFill>
        <p:spPr>
          <a:xfrm>
            <a:off x="1440" y="3176640"/>
            <a:ext cx="49183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57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Zimme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rman 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Te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l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eg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am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3" descr="Zimmerman Telegram"/>
          <p:cNvPicPr/>
          <p:nvPr/>
        </p:nvPicPr>
        <p:blipFill>
          <a:blip r:embed="rId1"/>
          <a:srcRect l="8859" t="0" r="0" b="0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914400" y="10666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ally announced March 1, 19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s://s3.amazonaws.com/data.tackk.com/mio/33806024/14137537514414/large.jpg"/>
          <p:cNvPicPr/>
          <p:nvPr/>
        </p:nvPicPr>
        <p:blipFill>
          <a:blip r:embed="rId2"/>
          <a:stretch/>
        </p:blipFill>
        <p:spPr>
          <a:xfrm>
            <a:off x="439560" y="831960"/>
            <a:ext cx="82472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Related image"/>
          <p:cNvPicPr/>
          <p:nvPr/>
        </p:nvPicPr>
        <p:blipFill>
          <a:blip r:embed="rId2"/>
          <a:stretch/>
        </p:blipFill>
        <p:spPr>
          <a:xfrm>
            <a:off x="447840" y="685800"/>
            <a:ext cx="8694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prospect.org/sites/default/files/styles/large/public/number_in_service_or_deployed.jpg?itok=NDqYH3O5"/>
          <p:cNvPicPr/>
          <p:nvPr/>
        </p:nvPicPr>
        <p:blipFill>
          <a:blip r:embed="rId2"/>
          <a:stretch/>
        </p:blipFill>
        <p:spPr>
          <a:xfrm>
            <a:off x="457200" y="123840"/>
            <a:ext cx="7099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32:30Z</dcterms:created>
  <dc:creator>Administrator</dc:creator>
  <dc:description/>
  <dc:language>en-US</dc:language>
  <cp:lastModifiedBy>Balazs, Stephen</cp:lastModifiedBy>
  <dcterms:modified xsi:type="dcterms:W3CDTF">2017-03-16T14:47:09Z</dcterms:modified>
  <cp:revision>17</cp:revision>
  <dc:subject/>
  <dc:title>America in Latin America</dc:title>
</cp:coreProperties>
</file>